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7.png" ContentType="image/png"/>
  <Override PartName="/ppt/media/image15.wmf" ContentType="image/x-wmf"/>
  <Override PartName="/ppt/media/image8.png" ContentType="image/png"/>
  <Override PartName="/ppt/media/image14.jpeg" ContentType="image/jpeg"/>
  <Override PartName="/ppt/media/image5.jpeg" ContentType="image/jpeg"/>
  <Override PartName="/ppt/media/image13.jpeg" ContentType="image/jpeg"/>
  <Override PartName="/ppt/media/image22.png" ContentType="image/png"/>
  <Override PartName="/ppt/media/image21.wmf" ContentType="image/x-wmf"/>
  <Override PartName="/ppt/media/image19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23.wmf" ContentType="image/x-wmf"/>
  <Override PartName="/ppt/media/image9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8047-5EFC-468B-893E-FD986662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FA36-912A-4406-942F-1F2724F3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366-8811-4126-87CC-B9D39CE6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24A-8AD0-4348-8ABF-B6952797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8C16-2C83-4619-AA78-8F629C17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5910-D6A9-4D1B-8FD5-E86E6D3B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6CAD-8571-4E7E-BFE1-C8045609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76D9-8406-4372-A33B-93E14B21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FE23-2C6D-41AB-8755-05020A00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2F64-9B97-4E34-817C-18BB58FD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85A3-9805-4F54-BB4E-65EBB63D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BEC9-9394-4A0E-8727-D2E7568F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0D41-613A-4234-B88B-09C448C9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FA90-4D46-4AC0-8679-E449E1C1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B22E-D20B-45B9-91FB-493F889D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412E-0EA6-4E88-8275-ED52DBD8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A864-5E95-441D-8A5B-0F7241B2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FC915-E732-4D72-B9F8-98FFF7C5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8AF63-EDAD-40F5-84CB-B1F72DF9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3B884-8F78-46CE-B7FA-7E6CF48E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B07A6-7564-44BC-B97C-E7E21791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6DB2B-7354-42CC-A61A-265DAAA3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85C-06D1-4BBB-B306-67D42A59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F2DFE-84BF-4483-A50B-C6EF56F8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6FBDA-B56A-421E-B18E-D6CEB6EA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5FC8A-4A07-4E85-9394-4D1B1907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D5C52-F110-4164-8C3C-76FD02BC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37B10-868D-4781-A0A6-37A2B5C4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78CC9-16C8-463E-AE2D-9D9AA452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DAF6A-6F49-4D74-BB3D-12B7DA94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B7159-7971-4CF2-95DE-1107C248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20A30-E85F-4787-84CF-AEA3FD29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3D1A0-DEC8-42E8-85CF-5D259223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BAC-E372-4E15-BD16-590EEDA9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9293C-4DAB-47F6-B1A0-A0856525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D4982-A0E0-4EE9-B0E6-B97CCA2C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D8748-0E0E-462D-A00F-B9500A62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847B4-00CE-43FA-8F10-30E4332E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0C023-0173-4D5B-A2BE-1BFC8C72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35C71-EC1D-4410-BFF3-83B4B4D7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33493-6789-402B-B45C-C26008F6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3CF84-5BDD-4C26-A385-E084737E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33B7F-28DE-46B9-BA5D-1C9CB788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9195A-0D5A-49C7-8CDE-157725AA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B962-819E-4CE9-8B87-9206AFAB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D8B03-95FE-4C4F-9A0E-6B2440FC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B1804-DBBF-4E9C-B80F-3577CC82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F5E7E-6980-4377-BCD4-A7B91751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CFE04-3440-4AC2-96F3-E620E05E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89C18-6EE3-4753-8E3F-1BB61A61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80A02-6920-42EA-AA7E-FD6D8551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2ABFD-8B4C-48F3-8D28-6003F249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E031F-5CF1-405C-A74A-B1E7A45F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BF033-6B54-42BC-833C-64FF7584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8C034-2FB4-4B09-BEA3-FE27EB46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47A-DEA8-4F6A-BBEC-7799E168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1895C-2E81-4E94-86FF-CE7EA6D8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70D46-5052-4932-ADC6-ADC6AEF0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B945C-963F-46FF-B380-66B1D13E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A1501-380D-41AE-BD45-F3BB9305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F18AA-16B8-49C3-91C3-99216268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2FDA5-0819-4535-96DF-787433C2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29555-2A62-4A3C-8782-6E75C207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7F855-A14A-4A76-B1BD-4AFBEF2B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EDE8C-DC8B-4324-88D4-D679DA07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D5EE7-8DD3-495F-BB7E-834B8CA2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9173-5AAE-427B-BF80-2C856402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A44DD-9EC3-4028-B7A8-A432EBAB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05FEF-BB5C-43E9-98CE-C1B79DE1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835F5-1F86-4B0F-B01E-296EAB85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FB8F6-EADA-45AC-BE0D-7629380C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E6753-60F7-48E8-A6C0-1EE5B8EA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9CD7C-7BD0-4991-BE53-9AAAED5C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136D3-8CF9-4F89-A1EA-851BD7ED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F5F57-E820-41BE-88AC-FB58051D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D8D31-1A8C-46C1-A3B8-41B8EA56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8570A-0143-4398-BA4B-AF1041BA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FD05-662B-43C6-B757-840D9F23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71423-E4F5-4CAF-A1CC-EC7C5F22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CA6FB-097B-43B8-9FC1-588E78E6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0BC13-A20E-443A-A3C6-B6FF3A9E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470A7-D5AB-4997-BA15-447C5CBB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104E9-28DF-4710-8F62-391196CC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0A987-47FA-4526-AFE4-2B93C958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DAF88-C822-4614-BD0D-884916A2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121CD-7586-47D5-9FD3-47BF509C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3BB75-0F72-4C80-8627-2CC51191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B56D4-6861-4A4F-8AA8-2D7927C2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02D2-AE4C-4C86-B327-3A6F43A8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6AABE-5354-4BEF-9122-D0BD1E0D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2C743-36A5-422A-B97F-EAED4BFD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DB7C5-4540-4949-BCD5-F62E9034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771B2-8E57-4C2C-A244-EABB1089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E6C1E-049B-4708-84F6-66AC17B7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B55E1-E694-4087-98D5-DC458CED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92374-952B-49F7-BF43-25DB621C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BA2E-F43B-4EDF-9A05-EC9916F2512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3CA1-DE11-404A-B07E-9EF4AA75817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82AE-203B-46DC-942F-0D443861772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94A1-42A3-4F37-B4BF-BB02A85D248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E380-2E5A-487E-90C4-6AA84A803A4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2DE9-E7F1-48B8-8A73-822CBF7D386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002B-F178-4253-8E1A-4EE9EF94CD9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0D5F-185C-4224-92A1-43A4576A844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pic>
        <p:nvPicPr>
          <p:cNvPr id="371" name="Diagram 3" descr=""/>
          <p:cNvPicPr/>
          <p:nvPr/>
        </p:nvPicPr>
        <p:blipFill>
          <a:blip r:embed="rId2"/>
          <a:stretch/>
        </p:blipFill>
        <p:spPr>
          <a:xfrm>
            <a:off x="1365120" y="3859200"/>
            <a:ext cx="6413760" cy="1816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C:\Documents and Settings\STAFF\Local Settings\Temporary Internet Files\Content.IE5\MFPCUCYL\MPj04371780000[1].jpg"/>
          <p:cNvPicPr/>
          <p:nvPr/>
        </p:nvPicPr>
        <p:blipFill>
          <a:blip r:embed="rId3"/>
          <a:stretch/>
        </p:blipFill>
        <p:spPr>
          <a:xfrm>
            <a:off x="914400" y="380880"/>
            <a:ext cx="1630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Je vais tres bien, merci, et vou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2" descr="C:\Documents and Settings\STAFF\Local Settings\Temporary Internet Files\Content.IE5\6U426MMQ\MCj04419020000[1].wmf"/>
          <p:cNvPicPr/>
          <p:nvPr/>
        </p:nvPicPr>
        <p:blipFill>
          <a:blip r:embed="rId2"/>
          <a:stretch/>
        </p:blipFill>
        <p:spPr>
          <a:xfrm>
            <a:off x="1371600" y="533520"/>
            <a:ext cx="1676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3440" cy="18414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l est loin d’ici?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Picture 2" descr="C:\Documents and Settings\STAFF\Local Settings\Temporary Internet Files\Content.IE5\CXTSM2V1\MPj04364890000[1].jpg"/>
          <p:cNvPicPr/>
          <p:nvPr/>
        </p:nvPicPr>
        <p:blipFill>
          <a:blip r:embed="rId2"/>
          <a:stretch/>
        </p:blipFill>
        <p:spPr>
          <a:xfrm>
            <a:off x="533520" y="3352680"/>
            <a:ext cx="2209680" cy="1629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C:\Documents and Settings\STAFF\Local Settings\Temporary Internet Files\Content.IE5\CXTSM2V1\MPj04364890000[1].jpg"/>
          <p:cNvPicPr/>
          <p:nvPr/>
        </p:nvPicPr>
        <p:blipFill>
          <a:blip r:embed="rId3"/>
          <a:stretch/>
        </p:blipFill>
        <p:spPr>
          <a:xfrm>
            <a:off x="609480" y="533520"/>
            <a:ext cx="1371600" cy="10112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C:\Documents and Settings\STAFF\Local Settings\Temporary Internet Files\Content.IE5\NZBI3JR5\MCj03790730000[1].wmf"/>
          <p:cNvPicPr/>
          <p:nvPr/>
        </p:nvPicPr>
        <p:blipFill>
          <a:blip r:embed="rId4"/>
          <a:stretch/>
        </p:blipFill>
        <p:spPr>
          <a:xfrm>
            <a:off x="3733920" y="457200"/>
            <a:ext cx="11221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07880" y="1749600"/>
            <a:ext cx="8729640" cy="18414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Vous allez tout droit, tournez a gauche a la cathedrale, et voila devant vous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2" descr="C:\Documents and Settings\STAFF\Local Settings\Temporary Internet Files\Content.IE5\MFPCUCYL\MPj04285050000[1].jpg"/>
          <p:cNvPicPr/>
          <p:nvPr/>
        </p:nvPicPr>
        <p:blipFill>
          <a:blip r:embed="rId2"/>
          <a:stretch/>
        </p:blipFill>
        <p:spPr>
          <a:xfrm>
            <a:off x="0" y="228600"/>
            <a:ext cx="3581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365040" y="1749600"/>
            <a:ext cx="8102520" cy="18414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c767c"/>
                </a:solidFill>
                <a:latin typeface="Lucida Sans Unicode"/>
              </a:rPr>
              <a:t>Mais, non, il n’est pas cher et tres jol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Picture 3" descr="C:\Documents and Settings\STAFF\Local Settings\Temporary Internet Files\Content.IE5\MFPCUCYL\MPj04365950000[1].jpg"/>
          <p:cNvPicPr/>
          <p:nvPr/>
        </p:nvPicPr>
        <p:blipFill>
          <a:blip r:embed="rId2"/>
          <a:stretch/>
        </p:blipFill>
        <p:spPr>
          <a:xfrm>
            <a:off x="3276720" y="304920"/>
            <a:ext cx="25146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365040" y="1749600"/>
            <a:ext cx="8102520" cy="1841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3581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l est beau, n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Picture 2" descr="C:\Program Files\Microsoft Office\MEDIA\CAGCAT10\j0157763.wmf"/>
          <p:cNvPicPr/>
          <p:nvPr/>
        </p:nvPicPr>
        <p:blipFill>
          <a:blip r:embed="rId2"/>
          <a:stretch/>
        </p:blipFill>
        <p:spPr>
          <a:xfrm>
            <a:off x="6705720" y="304920"/>
            <a:ext cx="17953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461440" cy="18414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Je cherche aussi un bon petit café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3171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01760" y="1384200"/>
            <a:ext cx="8065800" cy="221292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5800" y="3581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’est un bon caf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7" descr="C:\Documents and Settings\STAFF\Local Settings\Temporary Internet Files\Content.IE5\6U426MMQ\MPj04328620000[1].jpg"/>
          <p:cNvPicPr/>
          <p:nvPr/>
        </p:nvPicPr>
        <p:blipFill>
          <a:blip r:embed="rId2"/>
          <a:stretch/>
        </p:blipFill>
        <p:spPr>
          <a:xfrm>
            <a:off x="6172200" y="3048120"/>
            <a:ext cx="2552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20:43:36Z</dcterms:created>
  <dc:creator> </dc:creator>
  <dc:description/>
  <dc:language>en-US</dc:language>
  <cp:lastModifiedBy> </cp:lastModifiedBy>
  <dcterms:modified xsi:type="dcterms:W3CDTF">2009-07-16T17:36:49Z</dcterms:modified>
  <cp:revision>7</cp:revision>
  <dc:subject/>
  <dc:title>Bonjour</dc:title>
</cp:coreProperties>
</file>